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move the slide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4E11-0285-4D0E-8921-2393B3B82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NEED NEW IMAGE FILE***  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C1C-F71E-4AE3-AFF8-17A906C0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D434-299C-47FC-8487-81E80944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1764-F6C6-4252-A736-B9B6FA4F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30D-B5C7-4227-92CE-901950622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6622-62E9-4624-9ED2-10642A06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459D-EDA4-451F-AAB2-0FF870AF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1BCF-015D-4A75-9A88-A4DEE1DB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A11B-59DA-48B3-A9B8-D2E44963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EDEE-705B-4A7F-A0D2-141CCD0F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2D36-DEA9-4A72-9634-8CFFB502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4605-E190-482A-BA57-105C40F9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AF5-6F9F-483A-B4FA-A39CB882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D77E-0C7A-4E99-B8CD-99D547F6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8D9E-9F0F-4B03-9073-2583F5F7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DE1B-2FD0-4619-B27F-7E6D46A1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B40B-4AAE-45E9-A2D0-CECE6CD5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981D-8FB6-48BC-9EC9-87367FF8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F573-FFDC-4058-BEC7-2DF89130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BC7D-894C-4AE3-AA2A-647AB061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CEEE-50C4-4104-A59F-F2BA6EF1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2143-9279-4F51-AFB6-24E02CFD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72C2-C575-4DD2-89C7-9976BA41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7471-019B-4E09-9056-FE360F05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15C0-B803-420C-B74F-AEB0E38F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B128-A368-4C76-9895-C87895A90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4CF4-D9C7-46FF-8C8D-050B54E81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3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24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Software and Multimedia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hapter 6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ultimedia Presentation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esentations are sequences of slides that usually incorporate text, sound, graphics, and animation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ultimedia Authoring Software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uthoring programs link graphics, text, and other objects. They are used to create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tutori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724280" y="205740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lanning and Managing Project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re is also software for planning and managing multimedia projects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readshe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ftware is used to develop cost estimates, budgets, and repor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base softw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sed to control and retrieve information used in projec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ftware is used to coordinate the work of people and tasks to ensure that projects are completed on tim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ultimedia Software Suit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 software suite is a group of programs from the same company sold in a single package. 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Utility Software for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Multimedia developers often need software for specific tasks. These tasks might include: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een captur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 com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 conve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us prot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cal character recognition (OC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rograms Used in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eveloping a multimedia production requires an array of software to create, edit, and combine text, sounds, and images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Elements of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ifferent software is used to create the various elements of multimedia. These elements ar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s and ani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 or aud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rograms for Managing Tex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ext can be created with many programs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media developers use word processing software to include text in their projects and to create documents about their projec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-featured word processors have text formatting capabilities which set the appearance of the tex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Desktop Publishing Program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top publishing programs are sometimes called page layout program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better at handling the placement of graphics and processing very large docu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rograms for Graphic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raphics software is used for creating, editing, manipulating, and storing graphics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s software is also known as image management softwar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works with still and animated drawings, as well as photograph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rograms for Sound or Video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4343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ost operating systems have the capability of playing sound or video files.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dio or sound software is used to create or edit music or sound fi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eo software is used to edit video fi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257800" y="2057400"/>
            <a:ext cx="36576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4222800" cy="30402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Creating a Multimedia Production</a:t>
            </a:r>
            <a:endParaRPr b="0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ifferent kinds of software are used to combine the elements to create a multimedia production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0680" y="571500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bedded sound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05240" y="5715000"/>
            <a:ext cx="179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ed graphic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562720" y="5028840"/>
            <a:ext cx="91440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772400" y="3733560"/>
            <a:ext cx="76320" cy="1904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eb Design Software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eb pages are written in a markup language such as HTML or XML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design programs allow you to create Web pages without learning markup languag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current word processing and desktop publishing programs let you convert their files to HTML for use in Web pag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browsers are needed to view and use the Web pages on the Intern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00:55:49Z</dcterms:created>
  <dc:creator>Danielle Perkins</dc:creator>
  <dc:description/>
  <dc:language>en-US</dc:language>
  <cp:lastModifiedBy>GLENCOE</cp:lastModifiedBy>
  <dcterms:modified xsi:type="dcterms:W3CDTF">2003-01-04T00:58:14Z</dcterms:modified>
  <cp:revision>10</cp:revision>
  <dc:subject/>
  <dc:title>Chapter 6 Software and Multimedia</dc:title>
</cp:coreProperties>
</file>